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9D9-A263-43DF-8DD4-F44408EB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E94-A773-4E1A-9A7F-5D0C77A6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82D-2794-4D1B-811A-EC6159FA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C40-DBB6-43A5-A107-09BBFB92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1DE-F931-4EB3-8475-5CC85516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169-5327-4009-AC72-BA308D16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A79-B22D-4D78-903C-6648AC76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9AF-44D4-44DD-AC15-78D58241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CA2-6C82-46D5-9134-2F64B810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B29-75B8-4456-BAA8-517E858C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B63-E5D9-4EE1-98E8-79CEC8A8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9FB-2EAB-4C61-9639-3E15DC06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85BF-CF37-4025-A69D-055A2FBFF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250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Phonologica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sp>
        <p:nvSpPr>
          <p:cNvPr id="42" name=""/>
          <p:cNvSpPr/>
          <p:nvPr/>
        </p:nvSpPr>
        <p:spPr>
          <a:xfrm>
            <a:off x="287280" y="144360"/>
            <a:ext cx="6310440" cy="874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53000" y="250920"/>
            <a:ext cx="1925640" cy="153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3360" y="12589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words and letter combinations s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8532720"/>
            <a:ext cx="18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les of the Spe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25360" y="468360"/>
            <a:ext cx="3383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Etymologica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sp>
        <p:nvSpPr>
          <p:cNvPr id="47" name=""/>
          <p:cNvSpPr/>
          <p:nvPr/>
        </p:nvSpPr>
        <p:spPr>
          <a:xfrm>
            <a:off x="289080" y="289080"/>
            <a:ext cx="6308640" cy="8604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69000" y="395280"/>
            <a:ext cx="1541160" cy="154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0280" y="1476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here words have traditionally come f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8532720"/>
            <a:ext cx="18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les of the Spe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07920" y="25092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Morphemic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sp>
        <p:nvSpPr>
          <p:cNvPr id="52" name=""/>
          <p:cNvSpPr/>
          <p:nvPr/>
        </p:nvSpPr>
        <p:spPr>
          <a:xfrm>
            <a:off x="287280" y="216000"/>
            <a:ext cx="6381720" cy="874872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4640" y="125892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How words can be 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97360" y="324000"/>
            <a:ext cx="16509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un = runn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21000" y="1116000"/>
            <a:ext cx="21718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9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sual = unusu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21000" y="1763640"/>
            <a:ext cx="2181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and = land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8545680"/>
            <a:ext cx="18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les of the Spe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9000" y="217440"/>
            <a:ext cx="6524640" cy="86756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81000" y="468360"/>
            <a:ext cx="381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Visua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41720" y="539640"/>
            <a:ext cx="1511640" cy="1506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0280" y="11872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How words and letter combinations l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8532720"/>
            <a:ext cx="18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les of the Spe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6:46:35Z</dcterms:created>
  <dc:creator> Kate Parry-Ewing</dc:creator>
  <dc:description/>
  <dc:language>en-US</dc:language>
  <cp:lastModifiedBy> Kate Parry-Ewing</cp:lastModifiedBy>
  <dcterms:modified xsi:type="dcterms:W3CDTF">2009-09-08T06:49:40Z</dcterms:modified>
  <cp:revision>1</cp:revision>
  <dc:subject/>
  <dc:title>Slide 1</dc:title>
</cp:coreProperties>
</file>